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24D4-97FD-4219-A30C-022F374F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5067-C0BB-4B3B-81E2-EC37582A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8566-B761-4339-86CC-DD5CBC98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811C-D427-48BB-8105-E4C3AD21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B8B8-4289-486D-A1D6-19E7044C2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A960-4D1D-4A98-9914-0E8728A5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9DDB-304B-4D44-9C6E-1901B22D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24A8-34F2-4450-9915-891C1194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1EBE-0315-4A9E-BF4B-D8CB8C17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6ED9-FCBE-469B-8E66-A3180362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B063-EB48-4B60-9353-3287C2F5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90A2-7D01-46E6-9C37-0F491B05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CC07-0075-495C-8240-ACE4E1A1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89B9-D3B1-4C11-9C1E-9365B461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4645-4FF6-43B8-BE95-8670BE39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BD01-295B-4479-B602-BAAEB0D5A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548C-0E78-4F8F-9F57-8023D8607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2888-115F-4067-B31C-6C51173B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D355-227A-4A81-801C-4BFA96E5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304B-B19C-442E-ABF9-2CA6ABDF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62AE-8ACE-4DA4-A1AE-686B10E9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3E24-E683-449A-A481-581A8F74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25F4-3DF4-4B8A-9868-BDCC414E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1BEF-602B-4B06-8555-D76E82C6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6FD2-69AF-40C3-8972-4D8BC4815DD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73F9-BF2D-4A6E-A974-0A9405946A9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ASADY DYNAMIKI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NEWTON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7960" y="5334120"/>
            <a:ext cx="4012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r Dorota Szczerbe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72000" y="834120"/>
            <a:ext cx="7475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 zasada dynamiki Newton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924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 zasada dynamiki Newtona</a:t>
            </a:r>
            <a:br>
              <a:rPr sz="32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żeli na ciało działa niezrównoważona siła, to porusza się ono ruchem zmiennym           z przyspieszeniem wprost proporcjonalnym do działającej siły. Przyspieszenie ciała,     na które działa stała niezrównoważona siła, jest tym mniejsze, im większa jest jego ma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 = m ∙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ka jest podstawowa jednostka sił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76932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dnostką siły jest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1 niuton (1 N).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finiuje się ja na podstawie II zasady dynamiki Newto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[F] = 1kg∙1m/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= 1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N to siła, która ciału o masie 1 kg nadaje przyspieszenie 1m/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wobodne spadanie cia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7400" y="2514240"/>
            <a:ext cx="7550280" cy="35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iała spadające swobodnie na Ziemię poruszają się ruchem jednostajnie przyspieszony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as swobodnego spadania ciała nie zależy od jego mas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spieszenie, z jakim porusza się ciało spadające swobodnie na Ziemię to przyspieszenie ziemskie (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. Wynosi ono około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9,81 m/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 II zasady dynamiki mamy: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F = m ∙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waga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76932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zadaniach, w celu ułatwienia obliczeń, często przyjmuje się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10 m/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spieszenie ziemskie nie jest takie samo             w każdym punkcie Ziemi – wynosi od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9,78 m/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na równiku do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9,83 m/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na biegunach.                     W Polsce ma wartość około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9,81 m/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 Księżycu przyspieszenie, z jakim spadają swobodnie ciała jest około sześć razy mniejsze     niż na Zie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29440" y="121032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bliografia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251460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.Francuz – Ornat, T.Kulawik, M.Nowotny – Różańska,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Spotkania z fizyką, podręcznik dla gimnazjum, część 3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Nowa Era, Warszawa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ttps://www.googl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1T21:46:26Z</dcterms:created>
  <dc:creator>admin</dc:creator>
  <dc:description/>
  <dc:language>en-US</dc:language>
  <cp:lastModifiedBy>Badyl</cp:lastModifiedBy>
  <dcterms:modified xsi:type="dcterms:W3CDTF">2014-04-28T12:55:46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